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52C4103-F63C-4AF1-A33F-E036D40F5E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E11EC6-97FA-4E21-A7C1-DFFBE5E91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0400" y="4487400"/>
            <a:ext cx="524844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3E8BDF6-FEB9-4B45-8EA4-224FB05E60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1E3B44A-C2EA-448A-B21E-AEC6F4E09B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2DA4A2E-2451-4611-A58F-1B0AEB82F4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9F650F9-1B78-414E-9B1E-7BC5E8E38A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996CA77-6117-4192-BD86-815D758601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3F79109-6CBE-4B2D-AA47-3ACC10EB98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EAA4329-83A6-456C-8EBA-1851366D36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054160" y="636480"/>
            <a:ext cx="2824200" cy="2117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7B5DBCD-2FA4-47AE-A6E0-B02E5E598D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5C2BB34-D202-4BF9-97C5-788F9FDF65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5AC6977-D51E-48EC-A10D-4D36EBC917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B8366DA-8D72-4866-97B6-A65F51CE59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92E82AC-A83B-4669-9DFF-5DF8FB0DB9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5861EB3-5388-42F3-AF1C-DC8E2C0B81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A5BCC34-A4B3-4E17-AEB0-040B4482B0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767A02D-40F2-40BE-9BBB-1E87CE43BB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C3C4750-078A-4D1D-AC07-E5EA7EA85E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7AD7EA1-29C7-4B40-B22F-186B2F873F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8EDEA47-BCA6-497C-821C-2A0F2AA16E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D1E8D84-3639-4A01-BD03-72BE2EDD33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B3B9A83-8DA9-4AC3-8A3F-3D94C3868A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A4D6B03-0423-4DBF-95CD-6BF3677E95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3106609-AFCC-41A4-BC50-22095AA573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FE1D65D-4707-42DE-87DC-C4305373C9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6C80B6E-AA64-4FC3-B21C-024A09D988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0C0A584-0A8B-44C1-8DF4-96353DB993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3D096E4-BFB4-4283-9A00-A9D659E712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C17A77-B796-4CD5-8194-4B21C998A2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4D7AE2D-A20E-4763-B9ED-610896305D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662A685-0C9E-4CC8-918E-A7946DB8BF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938087A-A821-483C-BC33-088020CD25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6D5625-20AC-47E3-A62E-1F81E461DA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89147B5-0363-4146-8A02-96CE51F5EA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075F612-78C6-4CDC-91AC-6D43926C3C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C4B9ED6-C3A5-4595-A9B4-35E6FB2E18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0E5A7F8-B8DE-48D3-8F36-FA087B3F10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6AD0627-25DE-4132-A18A-3DDCC1A012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4366FFC-DD68-4FCC-B3A8-85C01B1593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24E6FDE-0BAB-4336-84C4-B87E730334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089EE0C-9443-4BFF-BBDD-E44908CB7BC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5FC4EBA-24B2-46EA-9ED4-3C4BC8AD09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31F-1871-4E7A-BF7B-EA0DE5592D6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3135-7CA6-4DDF-835E-AE58491B862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84B-D285-4369-8DCA-DCCAAC5DCE5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C0A-A97D-4E6A-9043-00E9AA4B3B9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BEE3-D7E4-402B-B0E3-8C3AD4E50D9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BDB1-5362-4496-852F-A7D051C6FE2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B515-3060-48E8-8069-B4A0ED938F5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9AFA-DD17-4A59-8DD5-541B5680EE8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9B4AEB84-8124-49FB-BFFE-79A387A7C0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993600" y="158436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Software Design 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91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Design Proces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07560" y="1652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re is no single best design method, the PSP  supports multiple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focuses on what a complete design should cont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 is to eliminate requirements and design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uses design templates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eria for design complet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able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7760" y="9046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Complet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02960" y="16999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-specified and incomplete designs are expensive and error-p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s can be over-specified, especially when they are produced without completeness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PSP course, most students find that their designs are incomplete and do not adequately guide implem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void over- or under-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your defec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design completeness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design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76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05040" y="1652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o separate tw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do th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represent the design when it is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 PSP can be used with any design method, it does not specify a specific design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 PSP does address design repres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69760" y="850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Methods and No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8596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e have been proven best for every dom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method often depends on individual skills and  prefer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idely-usable process must work with many different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also many types of design not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s assist in visualizing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ity provides preci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 provides intuitive understan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all three types of design notation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2160" y="9475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Design Notations Cause De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88920" y="17143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i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designs are difficult to visual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or representation compounds visualization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ell-represented design captures all design decisions unambiguous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dundant design is often inconsis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nsistency breeds errors and causes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ality design has minimum du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ossible, use design tools that ensure consiste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904680"/>
            <a:ext cx="7391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Notation Requir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22400" y="16999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notation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ly define all significant design aspe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commonly 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the designers’ i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to identify design problems and o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suitable for representing a broad range of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should al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concise and easy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complete and accessible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minimum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notations meet these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665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Formal Not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7640" y="16714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: using a formal 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precise and compact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s familiarity with an important 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nsistent with the notation used in formal methods for proving program correct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inguishes logic from other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 formal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ly take more time to 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practice to build famili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not be understood by users and co-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No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739800" y="1450800"/>
          <a:ext cx="7958160" cy="51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450800"/>
                    <a:ext cx="795816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6688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Functional Stat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7640" y="1652400"/>
            <a:ext cx="7702560" cy="2516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describing program functions, actions and conditions are separ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 →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When Condition is true, do Action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condition/action pairs are written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98720" y="4194000"/>
          <a:ext cx="7356240" cy="2027520"/>
        </p:xfrm>
        <a:graphic>
          <a:graphicData uri="http://schemas.openxmlformats.org/drawingml/2006/table">
            <a:tbl>
              <a:tblPr/>
              <a:tblGrid>
                <a:gridCol w="3678120"/>
                <a:gridCol w="3678120"/>
              </a:tblGrid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Condition A, do Ac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 B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Condition B, do Ac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 C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Condition C, do Ac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6832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 Examp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7588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ositive, se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z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&gt; 0 → y :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ven, return the sum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therwise return the difference between x and 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(x) → return( x + y 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dd(x) → return( x – y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665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884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complet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esign templ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832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 Examp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94960" y="1676160"/>
            <a:ext cx="7410600" cy="849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that an array a[0..N-1] has no duplicate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055520" y="4079880"/>
            <a:ext cx="7469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xpression reads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ll indexes i and j with values in the range 0 to N-1, where i and j are not equal, the corresponding elements of the array a are not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s15"/>
          <p:cNvPicPr/>
          <p:nvPr/>
        </p:nvPicPr>
        <p:blipFill>
          <a:blip r:embed="rId1"/>
          <a:stretch/>
        </p:blipFill>
        <p:spPr>
          <a:xfrm>
            <a:off x="946080" y="2473200"/>
            <a:ext cx="742176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60400" y="807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of Design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05040" y="1662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users of the design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ers and ver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ers and test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ers, maintainers, and enhan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users potentially need a large amount of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information is needed immedi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formation can be obtained from other 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wise to limit the design workload as much as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508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Design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90280" y="1657080"/>
            <a:ext cx="7829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tion that designers should provide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icture of where the program fits into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scription of how the program will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pecification for all related classes and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ctural view of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pecification of all external calls and 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st of all external variables, parameters, and cons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lear statement of the program’s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sential design information can be categorized into static or dynamic views, and internal or external 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6" descr="s14"/>
          <p:cNvPicPr/>
          <p:nvPr/>
        </p:nvPicPr>
        <p:blipFill>
          <a:blip r:embed="rId1"/>
          <a:stretch/>
        </p:blipFill>
        <p:spPr>
          <a:xfrm>
            <a:off x="1176480" y="1971720"/>
            <a:ext cx="67896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04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36640" y="1662120"/>
            <a:ext cx="7562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57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design templates are used in the PSP to cover the four design view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specification templ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specification templ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four templates provide the framework for completely and precisely recording a software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Templates to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7" descr="s16"/>
          <p:cNvPicPr/>
          <p:nvPr/>
        </p:nvPicPr>
        <p:blipFill>
          <a:blip r:embed="rId1"/>
          <a:stretch/>
        </p:blipFill>
        <p:spPr>
          <a:xfrm>
            <a:off x="1176480" y="2044800"/>
            <a:ext cx="6789600" cy="39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82360" y="807840"/>
            <a:ext cx="5949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al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90640" y="1652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al specification template describes the users’ normal and abnormal interactions with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ntains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user actions and system respon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cipated error and recovery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al specification template can be us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est scenarios and te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e development questions about operati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e requirements discussions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087" descr="ED"/>
          <p:cNvPicPr/>
          <p:nvPr/>
        </p:nvPicPr>
        <p:blipFill>
          <a:blip r:embed="rId1"/>
          <a:stretch/>
        </p:blipFill>
        <p:spPr>
          <a:xfrm>
            <a:off x="7496280" y="236520"/>
            <a:ext cx="1377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2640" y="880560"/>
            <a:ext cx="62182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perational Templ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4111"/>
          <p:cNvGraphicFramePr/>
          <p:nvPr/>
        </p:nvGraphicFramePr>
        <p:xfrm>
          <a:off x="957240" y="1773360"/>
          <a:ext cx="7323120" cy="46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41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1773360"/>
                    <a:ext cx="73231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Picture 4113" descr="ED"/>
          <p:cNvPicPr/>
          <p:nvPr/>
        </p:nvPicPr>
        <p:blipFill>
          <a:blip r:embed="rId3"/>
          <a:stretch/>
        </p:blipFill>
        <p:spPr>
          <a:xfrm>
            <a:off x="7497720" y="2080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82360" y="817200"/>
            <a:ext cx="65228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rational Template Class Exercise -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21960" y="1650960"/>
            <a:ext cx="7410600" cy="3154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is exercise, as a class, we will produce an operational scenario template for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ED"/>
          <p:cNvPicPr/>
          <p:nvPr/>
        </p:nvPicPr>
        <p:blipFill>
          <a:blip r:embed="rId1"/>
          <a:stretch/>
        </p:blipFill>
        <p:spPr>
          <a:xfrm>
            <a:off x="7662960" y="208080"/>
            <a:ext cx="137772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Object 11"/>
          <p:cNvGraphicFramePr/>
          <p:nvPr/>
        </p:nvGraphicFramePr>
        <p:xfrm>
          <a:off x="1284120" y="2732040"/>
          <a:ext cx="654084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4120" y="2732040"/>
                    <a:ext cx="65408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77400" y="890280"/>
            <a:ext cx="5335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mpl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09800" y="1711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 specification template allows you to unambiguously define the external functions provided by the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 and inherit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ly visible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function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s with other classes or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ossible, specify the behavior of each function or method with a formal no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6" descr="EDS"/>
          <p:cNvPicPr/>
          <p:nvPr/>
        </p:nvPicPr>
        <p:blipFill>
          <a:blip r:embed="rId1"/>
          <a:stretch/>
        </p:blipFill>
        <p:spPr>
          <a:xfrm>
            <a:off x="7526160" y="1936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s a Learning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88480" y="1645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involves discovery, invention, and intuitive leaps from one abstraction level to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e design must reflect the requirements, requirements usually are not stable until the product has been used, if t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work is iterative, and it must be driven by feedback from all involved par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tical problem is knowing when to freeze the design to produce the next ite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7400" y="937800"/>
            <a:ext cx="5983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unctional Templ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19"/>
          <p:cNvGraphicFramePr/>
          <p:nvPr/>
        </p:nvGraphicFramePr>
        <p:xfrm>
          <a:off x="1476360" y="1504800"/>
          <a:ext cx="5850000" cy="50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04800"/>
                    <a:ext cx="585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8" name="Picture 21" descr="EDS"/>
          <p:cNvPicPr/>
          <p:nvPr/>
        </p:nvPicPr>
        <p:blipFill>
          <a:blip r:embed="rId3"/>
          <a:stretch/>
        </p:blipFill>
        <p:spPr>
          <a:xfrm>
            <a:off x="7542360" y="193680"/>
            <a:ext cx="1377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5880" y="852480"/>
            <a:ext cx="65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 the Functional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93520" y="1647720"/>
            <a:ext cx="7638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duce a functional template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how to build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duct’s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key product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 specification is usually developed in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n initial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 the elements of that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 the functional specification template as you better understand how to build the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EDS"/>
          <p:cNvPicPr/>
          <p:nvPr/>
        </p:nvPicPr>
        <p:blipFill>
          <a:blip r:embed="rId1"/>
          <a:stretch/>
        </p:blipFill>
        <p:spPr>
          <a:xfrm>
            <a:off x="7526160" y="2080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66880" y="842760"/>
            <a:ext cx="677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mplate Class Exercise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93880" y="1657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is exercise, as a class, we will produce a functional specification template for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start by quickly sketching out a design of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9" descr="EDS"/>
          <p:cNvPicPr/>
          <p:nvPr/>
        </p:nvPicPr>
        <p:blipFill>
          <a:blip r:embed="rId1"/>
          <a:stretch/>
        </p:blipFill>
        <p:spPr>
          <a:xfrm>
            <a:off x="7653240" y="2095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6880" y="842760"/>
            <a:ext cx="677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mplate Class Exercise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93880" y="1657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, we will produce a functional specification template for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EDS"/>
          <p:cNvPicPr/>
          <p:nvPr/>
        </p:nvPicPr>
        <p:blipFill>
          <a:blip r:embed="rId1"/>
          <a:stretch/>
        </p:blipFill>
        <p:spPr>
          <a:xfrm>
            <a:off x="7653240" y="209520"/>
            <a:ext cx="137808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Object 410"/>
          <p:cNvGraphicFramePr/>
          <p:nvPr/>
        </p:nvGraphicFramePr>
        <p:xfrm>
          <a:off x="1241280" y="2452680"/>
          <a:ext cx="6567480" cy="380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9" name="Object 4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1280" y="2452680"/>
                    <a:ext cx="65674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560" y="846000"/>
            <a:ext cx="62611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Specification Template 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8848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ate specification template (SST) precisely def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states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tions among th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 taken with each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SST, you c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state machine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the state machin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mistakes and o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" descr="ID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5880" y="822240"/>
            <a:ext cx="65358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Specification Template 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80560" y="1662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ST specif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every st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brief description of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description of any functions or parameters used in the S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ditions that cause transitions from the state to itself or to any othe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ditions that cause transitions from any other state to this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ions taken during each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ID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3000" y="8805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State Templ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422360" y="1494000"/>
          <a:ext cx="4952880" cy="50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494000"/>
                    <a:ext cx="49528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Picture 4" descr="ID"/>
          <p:cNvPicPr/>
          <p:nvPr/>
        </p:nvPicPr>
        <p:blipFill>
          <a:blip r:embed="rId3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4720" y="846000"/>
            <a:ext cx="63342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 Specification Template 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99640" y="1657080"/>
            <a:ext cx="7613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gic specification template precisely defines the program’s internal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objective is to describe the logic in a concise and convenient no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seudocode compatible with the implementation language is often appropri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notation is also appropri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the designers and the implementers must be familiar with the notation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IS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64720" y="846000"/>
            <a:ext cx="63342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 Specification Template 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87400" y="1647720"/>
            <a:ext cx="7702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gic specification template should specif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gic for each item or method, each part and class, and the overall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cise call to each program, part, or meth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external 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 data types and data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5" descr="IS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3000" y="880560"/>
            <a:ext cx="51580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Logic Templat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22"/>
          <p:cNvGraphicFramePr/>
          <p:nvPr/>
        </p:nvGraphicFramePr>
        <p:xfrm>
          <a:off x="1712880" y="1473120"/>
          <a:ext cx="5697720" cy="41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473120"/>
                    <a:ext cx="569772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Picture 24" descr="IS"/>
          <p:cNvPicPr/>
          <p:nvPr/>
        </p:nvPicPr>
        <p:blipFill>
          <a:blip r:embed="rId3"/>
          <a:stretch/>
        </p:blipFill>
        <p:spPr>
          <a:xfrm>
            <a:off x="752472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5716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6" descr="s4"/>
          <p:cNvPicPr/>
          <p:nvPr/>
        </p:nvPicPr>
        <p:blipFill>
          <a:blip r:embed="rId1"/>
          <a:stretch/>
        </p:blipFill>
        <p:spPr>
          <a:xfrm>
            <a:off x="1330200" y="1519200"/>
            <a:ext cx="64836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6880" y="823680"/>
            <a:ext cx="45338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seudo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93880" y="1676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roducing pseudocode desig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poken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ossible, avoid programming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unavoidable, use constructs from the implementatio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he program’s action is clear, make a brief n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more specific about complex constructs, loops, and state-machin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writing the pseudocode in your development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, when implementing the program, include the pseudocode in the com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5" descr="IS"/>
          <p:cNvPicPr/>
          <p:nvPr/>
        </p:nvPicPr>
        <p:blipFill>
          <a:blip r:embed="rId1"/>
          <a:stretch/>
        </p:blipFill>
        <p:spPr>
          <a:xfrm>
            <a:off x="749772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6652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 Template Class Exercise -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9388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is exercise, as a class, we will produce a logic specification template for a function in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0" descr="IS"/>
          <p:cNvPicPr/>
          <p:nvPr/>
        </p:nvPicPr>
        <p:blipFill>
          <a:blip r:embed="rId1"/>
          <a:stretch/>
        </p:blipFill>
        <p:spPr>
          <a:xfrm>
            <a:off x="7650000" y="222120"/>
            <a:ext cx="137808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31"/>
          <p:cNvGraphicFramePr/>
          <p:nvPr/>
        </p:nvGraphicFramePr>
        <p:xfrm>
          <a:off x="1290600" y="2584440"/>
          <a:ext cx="6540480" cy="326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0600" y="2584440"/>
                    <a:ext cx="654048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0400" y="817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Design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78040" y="1657080"/>
            <a:ext cx="77025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esign templates provide one way to represent a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precise, unambiguous, non-redundant, and 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PSP design templates in conjunction with your other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presentations may be substituted if they are equally precise, unambiguous, non-redundant, and 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Guid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designing large programs, use a dynamic design strategy that allows for uncertain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design problems cannot be resolved without first building and testing a potential solution.  For these cases, use prototy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odifying or enhancing an existing system without a documented design, use the design templates to record the design as you decipher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87120" y="8949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3176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use the design templates to refine the specification and design of large or small software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with requirements, produce a set of design templates to describe the highest-level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se design templates as the requirements for producing the design templates for the next product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6" descr="s38"/>
          <p:cNvPicPr/>
          <p:nvPr/>
        </p:nvPicPr>
        <p:blipFill>
          <a:blip r:embed="rId1"/>
          <a:stretch/>
        </p:blipFill>
        <p:spPr>
          <a:xfrm>
            <a:off x="1146240" y="1674720"/>
            <a:ext cx="68515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s39"/>
          <p:cNvPicPr/>
          <p:nvPr/>
        </p:nvPicPr>
        <p:blipFill>
          <a:blip r:embed="rId1"/>
          <a:stretch/>
        </p:blipFill>
        <p:spPr>
          <a:xfrm>
            <a:off x="1123920" y="1674720"/>
            <a:ext cx="689616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06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02880" y="1674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design is a creative process, its routine aspects can be def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design notation will reduce design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recise design specifications and formats will improve design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PSP design templates in the course exercises, and whenever you can do so i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2" descr="s5"/>
          <p:cNvPicPr/>
          <p:nvPr/>
        </p:nvPicPr>
        <p:blipFill>
          <a:blip r:embed="rId1"/>
          <a:stretch/>
        </p:blipFill>
        <p:spPr>
          <a:xfrm>
            <a:off x="1380960" y="1704960"/>
            <a:ext cx="635184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88920" y="16999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is a defect prevention a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quality designs are a major source of rework, maintenance, and user dissatisf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ality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mplete and 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s the user’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ly guides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7760" y="9046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88920" y="1714320"/>
            <a:ext cx="74138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work is an inverted pyramid in which eac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foundation for the following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ugs the preceding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ave time and prevent defects, document all design decisions at all levels when they are m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s7"/>
          <p:cNvPicPr/>
          <p:nvPr/>
        </p:nvPicPr>
        <p:blipFill>
          <a:blip r:embed="rId1"/>
          <a:stretch/>
        </p:blipFill>
        <p:spPr>
          <a:xfrm>
            <a:off x="2120760" y="4010040"/>
            <a:ext cx="4900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7120" y="8949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ing the Desig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12680" y="1704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software designers follow a dynamic process.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mp from concept to de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taneously consider issues at several design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e multiple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ctured design process can help you to manage the dynamics of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ure what has been lear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and manage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desig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perly-implemented design process will reduce rework, manage routine tasks, and give the designer the freedom to be cre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8" descr="s9"/>
          <p:cNvPicPr/>
          <p:nvPr/>
        </p:nvPicPr>
        <p:blipFill>
          <a:blip r:embed="rId1"/>
          <a:stretch/>
        </p:blipFill>
        <p:spPr>
          <a:xfrm>
            <a:off x="228600" y="1542960"/>
            <a:ext cx="8658360" cy="493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05Z</dcterms:modified>
  <cp:revision>207</cp:revision>
  <dc:subject/>
  <dc:title>No Slide Title</dc:title>
</cp:coreProperties>
</file>